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ct" ContentType="image/x-pict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0196-7978-4AED-BF07-2245EF352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18B8-1D4E-4193-A8D1-0B1914CED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255F-7B70-423C-86E5-E10B3339D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0648-70CE-4EDC-BEFF-6269B5157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4ADA-E7A1-4069-86FE-C6046A92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2956-9AD0-4400-8308-A5E0A664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1002-9631-4F0B-A3FF-8A5E8C48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D784-2BC2-48E6-A105-40099009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0C2F-F4B5-447C-87A1-F3B5B4E3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AD9E-0271-41A9-A6FB-393992F2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1635-D1BC-4C1F-B02A-A422D6EC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470B-6E75-4CD1-B5BA-250E799D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146239-8FC3-46C1-BA03-A29FA5C180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193FE8-2983-4F0A-BBB7-531F657F27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ct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Early_leaf_damage2.jpg"/>
          <p:cNvPicPr/>
          <p:nvPr/>
        </p:nvPicPr>
        <p:blipFill>
          <a:blip r:embed="rId1">
            <a:lum contrast="4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rker Felt"/>
                <a:ea typeface="Marker Felt"/>
              </a:rPr>
              <a:t>Integrated Pest Management (IPM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5181480" y="52578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rker Felt"/>
                <a:ea typeface="Marker Felt"/>
              </a:rPr>
              <a:t>By: Carolyn S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rker Felt"/>
                <a:ea typeface="Marker Fel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arker Felt"/>
                <a:ea typeface="Marker Felt"/>
              </a:rPr>
              <a:t>pd.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pest management.gif"/>
          <p:cNvPicPr/>
          <p:nvPr/>
        </p:nvPicPr>
        <p:blipFill>
          <a:blip r:embed="rId1"/>
          <a:stretch/>
        </p:blipFill>
        <p:spPr>
          <a:xfrm>
            <a:off x="4724280" y="2201760"/>
            <a:ext cx="4552920" cy="4656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  <a:ea typeface="Chalkboard"/>
              </a:rPr>
              <a:t>So… </a:t>
            </a:r>
            <a:r>
              <a:rPr b="0" i="1" lang="en-US" sz="4400" spc="-1" strike="noStrike">
                <a:solidFill>
                  <a:srgbClr val="000000"/>
                </a:solidFill>
                <a:latin typeface="Chalkboard"/>
                <a:ea typeface="Chalkboard"/>
              </a:rPr>
              <a:t>What Is IP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An effective, eco-friendly way to control the pest population with the least possible dama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Based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  <a:ea typeface="Chalkboard"/>
              </a:rPr>
              <a:t>Life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  <a:ea typeface="Chalkboard"/>
              </a:rPr>
              <a:t>Interaction with the                enviro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Handwriting - Dakota"/>
                <a:ea typeface="Handwriting - Dakota"/>
              </a:rPr>
              <a:t>Fantastic</a:t>
            </a:r>
            <a:r>
              <a:rPr b="1" lang="en-US" sz="4000" spc="-1" strike="noStrike">
                <a:solidFill>
                  <a:srgbClr val="000000"/>
                </a:solidFill>
                <a:latin typeface="Handwriting - Dakota"/>
                <a:ea typeface="Handwriting - Dakota"/>
              </a:rPr>
              <a:t>, but where can it be use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ndwriting - Dakota"/>
                <a:ea typeface="Handwriting - Dakota"/>
              </a:rPr>
              <a:t>Agricultural and non-agricultural setting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ndwriting - Dakota"/>
                <a:ea typeface="Handwriting - Dakota"/>
              </a:rPr>
              <a:t>Househo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ndwriting - Dakota"/>
                <a:ea typeface="Handwriting - Dakota"/>
              </a:rPr>
              <a:t>Gar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ndwriting - Dakota"/>
                <a:ea typeface="Handwriting - Dakota"/>
              </a:rPr>
              <a:t>Workpl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914400" y="4572000"/>
            <a:ext cx="1865160" cy="1581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422440" cy="244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3"/>
          <a:stretch/>
        </p:blipFill>
        <p:spPr>
          <a:xfrm>
            <a:off x="0" y="4780080"/>
            <a:ext cx="1981080" cy="2077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"/>
          <p:cNvPicPr/>
          <p:nvPr/>
        </p:nvPicPr>
        <p:blipFill>
          <a:blip r:embed="rId4"/>
          <a:stretch/>
        </p:blipFill>
        <p:spPr>
          <a:xfrm>
            <a:off x="3352680" y="4057560"/>
            <a:ext cx="26751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ABCO_Pest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neva"/>
                <a:ea typeface="Geneva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2" descr=""/>
          <p:cNvPicPr/>
          <p:nvPr/>
        </p:nvPicPr>
        <p:blipFill>
          <a:blip r:embed="rId2"/>
          <a:stretch/>
        </p:blipFill>
        <p:spPr>
          <a:xfrm>
            <a:off x="225360" y="1292400"/>
            <a:ext cx="823608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lady bu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Papyrus"/>
                <a:ea typeface="Papyrus"/>
              </a:rPr>
              <a:t>Examples, Examples, 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Papyrus"/>
                <a:ea typeface="Papyrus"/>
              </a:rPr>
              <a:t>Beneficial insec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Papyrus"/>
                <a:ea typeface="Papyrus"/>
              </a:rPr>
              <a:t>Lady bu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Papyrus"/>
                <a:ea typeface="Papyrus"/>
              </a:rPr>
              <a:t>Praying Mant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Papyrus"/>
                <a:ea typeface="Papyrus"/>
              </a:rPr>
              <a:t>Mason B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Papyrus"/>
                <a:ea typeface="Papyrus"/>
              </a:rPr>
              <a:t>Bad insec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Papyrus"/>
                <a:ea typeface="Papyrus"/>
              </a:rPr>
              <a:t>Fruit w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Papyrus"/>
                <a:ea typeface="Papyrus"/>
              </a:rPr>
              <a:t>Mit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Papyrus"/>
                <a:ea typeface="Papyrus"/>
              </a:rPr>
              <a:t>Horse f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Papyrus"/>
                <a:ea typeface="Papyrus"/>
              </a:rPr>
              <a:t> </a:t>
            </a:r>
            <a:r>
              <a:rPr b="0" lang="en-US" sz="2800" spc="-1" strike="noStrike">
                <a:solidFill>
                  <a:srgbClr val="eeece1"/>
                </a:solidFill>
                <a:latin typeface="Papyrus"/>
                <a:ea typeface="Papyrus"/>
              </a:rPr>
              <a:t>Fl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  <a:ea typeface="Comic Sans MS"/>
              </a:rPr>
              <a:t>Advantage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creased yield with less p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etter eco-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Organic Produ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ittle skill, equipmen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isk, and co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think-positive.jpg"/>
          <p:cNvPicPr/>
          <p:nvPr/>
        </p:nvPicPr>
        <p:blipFill>
          <a:blip r:embed="rId1"/>
          <a:stretch/>
        </p:blipFill>
        <p:spPr>
          <a:xfrm>
            <a:off x="4572000" y="3200400"/>
            <a:ext cx="4572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50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advant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mental la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t tra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itor Cro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kground knowle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disadvantages.jpg"/>
          <p:cNvPicPr/>
          <p:nvPr/>
        </p:nvPicPr>
        <p:blipFill>
          <a:blip r:embed="rId1"/>
          <a:stretch/>
        </p:blipFill>
        <p:spPr>
          <a:xfrm>
            <a:off x="5715000" y="1600200"/>
            <a:ext cx="2971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Questions.jpg"/>
          <p:cNvPicPr/>
          <p:nvPr/>
        </p:nvPicPr>
        <p:blipFill>
          <a:blip r:embed="rId1"/>
          <a:stretch/>
        </p:blipFill>
        <p:spPr>
          <a:xfrm>
            <a:off x="6267600" y="3022560"/>
            <a:ext cx="2876400" cy="38354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tencil"/>
                <a:ea typeface="Stencil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fao.org/sd/teca/tools/lst/LSTP5_en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scionline.org/index.php/Integrated_Pest_Control#Methods_and_Appl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team.ard.usda.gov/ipm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5T22:15:25Z</dcterms:created>
  <dc:creator>Carolyn Sears</dc:creator>
  <dc:description/>
  <dc:language>en-US</dc:language>
  <cp:lastModifiedBy>Carolyn Sears</cp:lastModifiedBy>
  <dcterms:modified xsi:type="dcterms:W3CDTF">2009-03-06T01:11:26Z</dcterms:modified>
  <cp:revision>4</cp:revision>
  <dc:subject/>
  <dc:title>Integrated Pest Management (IPM)</dc:title>
</cp:coreProperties>
</file>